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12A31-5B91-4A75-8E77-9FEA59B47C8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34BDBD-D6C3-4E82-8E37-FAEE739A24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EFB920D-F8E2-4558-B443-0058009B9F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D47C2-1A99-4C6E-AAF2-07585B9CC7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6B75A34-1D72-484A-BD9A-290002259E7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8461B6-20AA-4B51-886C-2A477415F8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05F26EE-0B26-4B7F-AA8F-9EAC51B856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CA3303-FE5A-48D5-8994-2D2F004FD6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76629A0-DB17-4F91-A98F-68A18E06611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7DF4E5A-5F62-42B1-9221-AB0AC985C84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812BAB1-48F3-4F8B-8FC2-E5005C6A044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D83AA00-F9FF-4741-BB33-4593DFDF6E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0B9D659-5111-4C0C-84B4-8ACE2E8D01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FBB3B9-9D20-4316-A755-E05BD815E9C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45F6925-36BE-420F-B846-49023840E5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E9431BE-6C0B-4BF8-AC90-B161AE3E41C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EDC379-572B-4D27-9903-4A6EC36A1F6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8F8AF8-1028-48A7-B50F-851220BD2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0452B-3AAC-4EDB-B1E2-EFF47DFF42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1792E6-6302-4906-A2C8-A286ABBB7B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F1684D-C31D-4688-9958-43485E9BDE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7DB01C-FFD3-4D98-A3FC-A717EA297B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C778FD-9BF8-46C4-946B-3A558E4F83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C80634-974C-41C8-AC83-66941C468BE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2220FB-2646-490A-9AB2-D2D115069F3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DE866-82C2-4359-B405-B0F1FEB6F5A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A0AA199-48DA-4433-957B-6947B638FA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63A33A-F6A7-467A-814C-FA076762631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F49E5D-E8ED-4A03-BE1E-FF76E79A0FF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086356-0B33-47E5-84A2-EC74EF0F8A7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BF68A0-31B0-4C60-BF33-50FA36DD0CD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F7C0D-2732-4865-8A70-96FCAFD2A6EA}"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CB079-7F8B-465F-AA53-E1D522A0837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DB5DC-3DB2-413F-80EE-32C0B4A914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B09F12-69F4-4832-AD53-0AF9CAA2E59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BE86C-CEFA-458C-9E64-96A250B57931}"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3913E-BCF1-4541-8AC4-31E46C6DCB62}"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298D8-012B-4914-B86D-E8CCA1682D0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F181AE-B6D8-4EDC-851C-12A534A17AB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0D382B-05FA-4951-972C-3E100ABEBEC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01B47-F26E-4501-B500-3C0D27745D05}"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FCE8ED-58F3-4312-9AA3-FA56C7EA4123}"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DCF15-13ED-4634-B122-9F5E3FC6BF3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90B95C-BB55-4A66-BF91-90110AC9B4B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E3394C-539D-4772-AD70-828B933578F8}"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82F1BC-8F37-4FAD-BD37-0E6D9B2D162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5464C9-2C86-446C-BB23-19CE7C18075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E39A8A-B7F1-4BDC-A900-0E489ADCB0D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85D92-F784-45A8-920B-1C58B595B4DB}"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D10E17-E6C8-4F54-8D60-817906D0C202}"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AD850-F1EE-41FE-8005-85EACA1FFED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C3F80E-1777-4DCC-AE9E-6195B78C48C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AA96B9-4063-482E-8F73-1CCB182236F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E715A3E-D32A-40DC-9A43-0C6159671788}"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4B6C5-0EB3-4C73-A57A-18E029CA09A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581AF-09A4-46CE-9626-F073E2A4CA8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EE7E15-1501-4039-A0A0-3A660D58295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B2F8AF-8788-42F9-9716-5D1EAF44DAB4}"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0ABD1-B6C3-4626-907B-F0024F539459}"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FFDDE-A834-4214-A1D4-85A796E7A3B0}"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63D34A-0732-4FB9-960C-B8589AA33960}"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617DE0-B5C8-4B7B-B2BE-37A51A3D0A72}"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CBF8C9-8D57-4669-8CAA-BEF13EE01B37}"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349E9B-EDAC-4EF1-86E0-DB5EAE0720C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12541-7FF1-4E0F-83DA-03582364D4B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A01655-BA4F-47DA-B36A-51E26FDF388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E96A1-E942-4F36-96CC-7438B9A5624C}"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7DDE67-8A73-4C6C-9902-5F229B44992E}"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7D7B1-8085-44A3-AFB7-AAD2D0EE6BC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CAE39-D2AC-493C-A455-B48C910144A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662C7-ED95-4F69-A40C-0D43ABECF25F}"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B682C-FF8C-4B4B-8361-1C1FA41DB55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682FD0-BB6D-42A0-AF96-E626ECE4348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F366-CA44-445D-9DC3-6D7BC55D0AF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FFB47F5-9A83-4627-9164-6CE866C2AFF0}"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89D161-65F4-4039-BB92-0157B957350D}"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46C7BA-EA17-4576-A27E-E60A38688B7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CCC8FD8-1475-44CC-84F0-CC3073BED66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E7E34-6B25-4C7E-AC8B-27EE2DDD57D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82773-DFF1-4F29-8268-2487AFC4912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6D38BF-336C-4516-9EC4-235CA8A71762}"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B92C-3F68-475B-9C77-4587C50FF4E7}"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D2CDC-B667-47E9-BDA3-4AA331ACE49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39D12-4EC8-4594-92A5-212A691B6269}"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B52C36-50F0-46FD-A433-2BFE34D6CF86}"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2914E7D-81C8-48C2-987B-E54EB2E0DE0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811D15-5CEF-476A-ADD3-CC20AC0B0B97}"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FEB908-7AFF-42E8-94BA-72581607E3A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0D2E6A-F5EC-49F6-BD6E-42F4481492C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0F21-FF8A-4D04-9294-3CACAE37FC8E}"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5324D1-24D1-4855-92F1-3615FBA257D0}"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FB9E5D5-C324-4720-9432-97CD7B5EAED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679659-8CD6-4B12-8C51-1C1A0ED1863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36ED7-8EA9-4324-92B4-44B0E3CD3A4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0D6A1-2132-4D88-B708-79AF1C2ADE2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174061-17CC-4F91-A940-DBD78887706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598D6E-3BD5-408F-89AE-7B4223001743}"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1ED5E1-61FD-4BAB-BA9B-48109BE5F2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AA34B-7F28-470A-B1CE-201796668F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0B26A-5ECD-4A3B-AB62-D13F5EF92DB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E63BA7-D41C-418B-B5A6-017937D6B1A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BC21D-D4E6-4745-B698-E1AB5274F80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46365B-DB37-46FD-8A1D-4FFCDCB66B5C}"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9022132-C13C-4C1E-8F63-4159A8141B7A}"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0CBF3B-6EA8-472A-A86D-444C5DA4798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BCFE9-1E2E-4E1E-A742-724BAB893ABC}"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98E43-A984-4283-94D9-6E34C4FCFB7E}"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DD532AA-B3A5-4C37-9912-F23342227B9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F2997-3AC6-4C3E-9B41-96E121B8B8E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BFC9506-43F1-4676-8BC6-BAAD1F9577AA}"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C2C37F-2C5B-4D35-99B3-EC0B20C1B68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C38F4-530B-403A-8247-DD6181667650}"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3119D-2CD8-418B-8090-015FC550D5BA}"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EAF4-6B70-4D9E-9C1C-D083276E8A1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046BEF-1790-48B0-9158-BEB63DC09D95}"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1FE7AF-2035-449A-9B2D-0956ACB403A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3FB5B-0C28-483E-BDD6-1CE37ECA734E}"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35218-B670-4BCB-97DD-C9220282CE75}"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511C5-039D-422D-9E4C-2869382C0E8B}"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067E0-ABB0-4F69-BADD-40FE3680351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7A43D-23A1-418A-B85F-8FF9874569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49220-207C-4FCC-B42E-4E9DEE4232B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3F869-A95A-4003-9F67-F52C8B5C34E3}"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C7F619-1F90-4B03-8071-DB0809670F61}"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EE36AD-2205-493D-BB40-C9DADDFA4201}"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938587-4D66-49BB-B7D7-D0DFC8419C3B}"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42DCA-EECD-4A83-B008-6C8D13B8F367}"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364C9-46BC-41EF-8386-6976393D45B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758619-6F29-4AC8-BFA3-800BAFEF697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A4E5A-7A6C-49FF-A4E8-BD513CDEE83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1F0412-F6F7-477E-978B-55F1E6CA3682}"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EC467-9CFA-4CDF-B58E-9AD1E0D1BDBC}"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FAAD30-7459-4ED7-B321-61E82BFC648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2A4C9-2551-4F7E-A22B-CC293ADB1EC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BB1B3-915D-4BCF-A664-39760837A40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81D512-22D4-4E63-9612-8C484E2DD92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B6B63A-41FE-4272-9679-5E59494067D7}"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703992-3342-40D2-B805-632594328B7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6BB9D-43A1-47CA-8E3E-D54CC0CFF63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43F818-F32C-4484-9AE4-61E1EFDDB743}"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4A3DB-06DD-4557-A97C-CE8E600349B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4C034E-D362-466F-BD66-F900C8F839B9}"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A9BB86-3807-4421-B056-94C0EE72095E}"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B1E452-F4E7-4AAC-BC1D-8E1D34417EF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1D0E3-FFBF-4327-AEC8-8AC7009B2C2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E53E3-8D12-4C4B-B767-BA378717763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35C683-F3A6-4EB5-8ABD-6C8DC2951E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CAE19B-4897-4F02-A2BF-D4994D04037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6B504F-F573-4773-8FA8-947B0A931A0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698CC-8607-462F-A7E2-AA92D0C6B239}"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E2493A-4537-4FF5-AFC8-08E7D53C6D74}"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4F2FF1-85B6-45D6-89CE-D40E1057514C}"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A410EB-97D5-416B-96C8-51B63F3D4322}"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336EF3-554E-4547-AE84-96AAD8712B6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3B4B2-B17F-4179-954A-CF7B79497A1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70E0BE-749D-4FEC-BB9C-91D073F4CE2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72118-B025-43AF-8669-5C3F2D61DE0B}"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865FF5-6237-4763-9505-411E76B6046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53A62F-5971-4EBE-8A1F-7F61B90B6AA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0960E7-D3E7-4A79-8EC6-5D80E66F4F8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5927D34-CBEC-4079-A16F-A7DEF9C266FD}"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E35E6-36BF-4D61-BC9F-7A1B040F4B11}"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734907-4D1E-4981-8901-ECE0237CA8E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A1C34-C338-4C8E-8710-7CEE8475EA53}"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663C3-F5BB-458D-8421-511146F2714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617BD7-0502-4BC7-9597-A7745B4ADDA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43AEF-1680-4350-8E84-41A33F570FE8}"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F0FE9F-BF18-4A3B-8698-146081DBE26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B77FD-ED2C-4344-832E-248C2DD872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688760-117E-42BC-BD03-274F80AA44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997983-CCB7-4CBC-B5B1-011B02BDF8E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9C7CA1-1BE2-4A6D-948C-63D96037DBC8}"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BD95A8-35B3-44FA-9FD5-44D64E819CD6}"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01C392-7600-461E-B8A9-39AB17C2A58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D16A62-CF89-465D-B731-0E9519E1699D}"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8F9F5-D52B-4E93-9547-12F03A6564E8}"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1A777-890D-4BA3-8DEC-DA9EC6F3E08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FDE1E4-D86E-4937-92A2-D5102E7CFD8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C25F6C-E29B-48B8-AD0A-0D021696E45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B4699A-9BA4-4C0B-BD10-527CBF40D6D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36898-A307-44ED-97CE-AF99BC567D27}"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31C05E-B226-4006-B396-F7B4846C8C6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0354F0-6F1D-4E9C-9D49-13D0402C5E7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3DB41E-6D15-45BC-B617-C4E188440F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E8559-25C6-4879-89BC-7DAADE6FEA02}"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D69744-0915-4C7F-BF28-5A3B4212A76D}"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BC66AB-7E64-45D3-B45E-745A0B022A17}"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13002-356D-449C-B704-757A30B276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9886A3-5E5C-4F22-AEAA-E6B3886F4E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327102-C388-4723-84DD-D9DE3125348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E0BA09-50D0-4DEA-A170-2D9A21A3E5E8}"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78666-6FC5-42A9-9714-2168B7D80F2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3E8A30-0E6B-4F3B-A12E-1755D98828C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76CA46-35D9-48AA-BCD8-F4E449CBB977}"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69E62-1F4A-4FC7-8DAC-12D1566EAD9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E51259-015B-405E-AF24-E5AC054469E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34C2E-7CB2-4128-A3DB-44503E87B9C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49DCC-EC6B-4EF8-83F8-0602F26FA261}"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25EC8C-9174-481A-B051-7EBB7CC2DB1D}"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D8626A-A2C2-49AE-B927-C02BBF78A7FB}"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25AF0-6882-4773-8306-1856A2FCC91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A1B0A7B-BAE1-42A5-9582-463B1AB12EA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C0874-FB9A-4EA2-85CD-5A8355F3B91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EB597-2125-43F1-B6B8-D765F5A805C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BDB929-371F-4130-9B2D-01E6C71DFAAF}"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A9A87-55B6-4253-82CE-A6C9CD0FE32A}"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670AB3-7C96-45CA-AC40-089712C7990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7AD4E-7F47-4E27-B2C8-59EAF76AFBF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DDD9D-CBE4-44FB-88A2-6843A2C0909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951D63-CDFA-4FF7-9CFF-76FBB3A4E17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D520D1E-C582-438D-B5FD-C0C9A4C8D56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5F10B6-33DC-4362-91B8-3E2C5360A8EC}"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356112-F415-4F13-9945-24949F3CC2F3}"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FF1829-778D-456D-9558-8C4A2D637A55}"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63942-D5C3-4F8A-BC52-12EA5C3CF142}"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3FCF2-FBC4-4081-9894-D1360FEE149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D35BA5-D983-45F2-9B27-8CFDD4B61F4D}"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663FFC-4017-4B32-BD69-440CA971874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3DE4B1-8648-41A6-9ED2-645B5F791EAB}"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FDCC70-7D5D-4D67-9349-84539739647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E1ABD1-A137-4CE4-A91F-B0037345966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BC5E9-871C-4E55-9631-68F1E5567C2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3DA35-B00B-4B30-9627-245B601AD84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EB5643-D3F9-487A-A180-52EF7B9221D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6055E-26FE-4183-886B-01E88E0D0331}"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8E9865D-4E9D-49F3-8F96-9E94977B5200}"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E54AE-2C3B-47F8-ABE5-BA33ADFFA82E}"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D51FEE-F0EB-4A2A-BF1D-6B6513D78A4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744BAC-74A0-4B7E-A3EE-506434594CF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16D97C-518B-4823-843A-1474F5855FD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2CABB7-BDC9-4D8C-A923-BCC17474584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3FF3DF-8D3D-42C7-91CD-D29410E6013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221102-C37A-4347-9945-2E0109A6D4B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9DFF8-AC8D-44C7-AB65-B165C385613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8EE58-A6F8-4FDB-A9C6-EDF6370E247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311EFF-A866-44E8-A146-284CDBBA5C8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287C2-7648-40E1-8BE8-EC8598917E9A}"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0C062-D300-4990-8FA1-10A670E3F100}"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16C717-8A45-4E1C-AF7E-67A0DBC60AE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